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90002"/>
        <c:axId val="57870640"/>
      </c:barChart>
      <c:catAx>
        <c:axId val="49790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70640"/>
        <c:crosses val="autoZero"/>
        <c:auto val="1"/>
        <c:lblAlgn val="ctr"/>
        <c:lblOffset val="100"/>
        <c:noMultiLvlLbl val="0"/>
      </c:catAx>
      <c:valAx>
        <c:axId val="57870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90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ED9-CDA4-41E5-8050-C0C69DC2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202-C1DE-47B6-8A52-2223CBEF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CC8-3DDE-4DC7-9D54-72DA190D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624-161B-4394-B15B-A85DEF34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72B-6D85-4398-9D88-AB5554AA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A33-1313-4EFB-A79D-090A6156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7ED-DDD3-45BB-8E67-E7895970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4B5-567C-4AEA-8129-5B86FC4D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C37-3046-4A8F-B4B4-2FC0A075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CA7-2C49-4A61-84F7-EAA3880A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B6C-5392-4AFC-BEEE-5685EF2D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508-9BD7-4BDA-BE8B-438B3D4F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D0C2F-54E5-4ECE-B8BE-30BCB909DC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